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.wmf" ContentType="image/x-wmf"/>
  <Override PartName="/ppt/media/image2.wmf" ContentType="image/x-wmf"/>
  <Override PartName="/ppt/media/image28.jpeg" ContentType="image/jpeg"/>
  <Override PartName="/ppt/media/image14.wmf" ContentType="image/x-wmf"/>
  <Override PartName="/ppt/media/image27.jpeg" ContentType="image/jpeg"/>
  <Override PartName="/ppt/media/image16.wmf" ContentType="image/x-wmf"/>
  <Override PartName="/ppt/media/image24.jpeg" ContentType="image/jpeg"/>
  <Override PartName="/ppt/media/image4.wmf" ContentType="image/x-wmf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434-10EC-4245-9C33-2601DE68D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4D7-1310-4107-8E5E-284FA4572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DAEC-C660-42EC-9A05-A9675C9FDE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B771-A2F1-4651-9765-3F50C8C4A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AFD-5E6E-49E9-B484-865CABE68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22D-AB33-413A-B527-4CB676CECB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89B-D158-4EBE-9D02-5B4F52D65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FFF2-4B6F-4083-979B-1B987D9D43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D8B-0239-4317-A41D-40E608D9EB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768-1C57-4DA3-96AE-8D910EF32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DDC-D265-4119-8926-D9EDACF72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E29-25D3-47CA-8554-4A17D347C7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AE9B-C5B1-4969-A056-A9D2CFB857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9E44-F284-4E3A-9710-3CB3107688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54D-7DAF-4B75-A6AC-686E9FC3F9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36D0-402F-4777-9EB1-0EE8688E48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074-331C-4569-9A89-3763CCB258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C14-49F1-4ED8-9299-17F85A6B0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B56-7B24-4ED9-BC86-BFBCD06F26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824-8425-498A-912F-5AF8FA9E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8AC-EC54-4B3E-903A-362F9571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501-5722-4F36-995B-5886B3E1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FA3-1AD3-4FCC-AFE2-F29DFC55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93D-816E-4797-9610-F3367F67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362-6351-4C08-8167-AD324530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E11-03A6-4D09-99E2-D8C164B3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910-BED0-4B0D-AD7F-7DA3D5B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655-BD38-4D77-936F-FF52A373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309-01EC-488E-A220-39309C3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F5C-0E59-471E-9E9A-E8224C2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5D1-713B-40E5-BD38-1E1E0D7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FCE-50F4-41DF-826A-0ADF6C71D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rfulleredgehill@yahoo.co.u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2.wmf"/><Relationship Id="rId13" Type="http://schemas.openxmlformats.org/officeDocument/2006/relationships/image" Target="../media/image13.jpeg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10.wmf"/><Relationship Id="rId4" Type="http://schemas.openxmlformats.org/officeDocument/2006/relationships/image" Target="../media/image15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places in tow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play brain gy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how to describe what our town is lik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compare ite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describe our 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6) To play silly ga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uríst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Copie de touristique"/>
          <p:cNvPicPr/>
          <p:nvPr/>
        </p:nvPicPr>
        <p:blipFill>
          <a:blip r:embed="rId1"/>
          <a:stretch/>
        </p:blipFill>
        <p:spPr>
          <a:xfrm>
            <a:off x="685800" y="2319480"/>
            <a:ext cx="3809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j0185109"/>
          <p:cNvPicPr/>
          <p:nvPr/>
        </p:nvPicPr>
        <p:blipFill>
          <a:blip r:embed="rId1"/>
          <a:stretch/>
        </p:blipFill>
        <p:spPr>
          <a:xfrm>
            <a:off x="468360" y="2637000"/>
            <a:ext cx="46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ranqui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Copie de tranquilo"/>
          <p:cNvPicPr/>
          <p:nvPr/>
        </p:nvPicPr>
        <p:blipFill>
          <a:blip r:embed="rId1"/>
          <a:stretch/>
        </p:blipFill>
        <p:spPr>
          <a:xfrm>
            <a:off x="685800" y="2643120"/>
            <a:ext cx="43178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ruido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Copie de ruidoso"/>
          <p:cNvPicPr/>
          <p:nvPr/>
        </p:nvPicPr>
        <p:blipFill>
          <a:blip r:embed="rId1"/>
          <a:stretch/>
        </p:blipFill>
        <p:spPr>
          <a:xfrm>
            <a:off x="685800" y="261000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Copie de limpio"/>
          <p:cNvPicPr/>
          <p:nvPr/>
        </p:nvPicPr>
        <p:blipFill>
          <a:blip r:embed="rId1"/>
          <a:stretch/>
        </p:blipFill>
        <p:spPr>
          <a:xfrm>
            <a:off x="755640" y="213372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suc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Copie de sucio"/>
          <p:cNvPicPr/>
          <p:nvPr/>
        </p:nvPicPr>
        <p:blipFill>
          <a:blip r:embed="rId1"/>
          <a:stretch/>
        </p:blipFill>
        <p:spPr>
          <a:xfrm>
            <a:off x="1236600" y="19810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>
            <a:hlinkClick r:id="" action="ppaction://hlinkshowjump?jump=firstslide"/>
          </p:cNvPr>
          <p:cNvSpPr/>
          <p:nvPr/>
        </p:nvSpPr>
        <p:spPr>
          <a:xfrm>
            <a:off x="6948360" y="5877000"/>
            <a:ext cx="1511280" cy="720720"/>
          </a:xfrm>
          <a:custGeom>
            <a:avLst/>
            <a:gdLst>
              <a:gd name="textAreaLeft" fmla="*/ 46440 w 1511280"/>
              <a:gd name="textAreaRight" fmla="*/ 1464840 w 1511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5281" h="21600">
                <a:moveTo>
                  <a:pt x="0" y="0"/>
                </a:moveTo>
                <a:lnTo>
                  <a:pt x="45281" y="0"/>
                </a:lnTo>
                <a:lnTo>
                  <a:pt x="45281" y="21600"/>
                </a:lnTo>
                <a:lnTo>
                  <a:pt x="0" y="21600"/>
                </a:lnTo>
                <a:close/>
              </a:path>
              <a:path fill="lightenLess" w="45281" h="21600">
                <a:moveTo>
                  <a:pt x="0" y="0"/>
                </a:moveTo>
                <a:lnTo>
                  <a:pt x="45281" y="0"/>
                </a:lnTo>
                <a:lnTo>
                  <a:pt x="43881" y="1400"/>
                </a:lnTo>
                <a:lnTo>
                  <a:pt x="1400" y="1400"/>
                </a:lnTo>
                <a:close/>
              </a:path>
              <a:path fill="darken" w="45281" h="21600">
                <a:moveTo>
                  <a:pt x="45281" y="0"/>
                </a:moveTo>
                <a:lnTo>
                  <a:pt x="45281" y="21600"/>
                </a:lnTo>
                <a:lnTo>
                  <a:pt x="43881" y="20200"/>
                </a:lnTo>
                <a:lnTo>
                  <a:pt x="43881" y="1400"/>
                </a:lnTo>
                <a:close/>
              </a:path>
              <a:path fill="darkenLess" w="45281" h="21600">
                <a:moveTo>
                  <a:pt x="45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81" y="20200"/>
                </a:lnTo>
                <a:close/>
              </a:path>
              <a:path fill="lighten" w="45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81" h="21600">
                <a:moveTo>
                  <a:pt x="15634" y="10800"/>
                </a:moveTo>
                <a:lnTo>
                  <a:pt x="29647" y="3794"/>
                </a:lnTo>
                <a:lnTo>
                  <a:pt x="2964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ocabulario - ¿Cómo es tu barr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843280" y="2060640"/>
            <a:ext cx="362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vertido / abur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o / anti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nito / f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rístico /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quilo / rui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mpio / su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How to compare 2 ideas, things, states of mind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ás...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ore...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arnstaple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ás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suci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Bide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arnstaple is dirtier (more dirty) than Bide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menos...que= 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less...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ideford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os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túristic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Cro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Bideford is less touristy than Cro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tan...como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as..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Parkham es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n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moderno </a:t>
            </a:r>
            <a:r>
              <a:rPr b="1" lang="cy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o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 Wools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Times New Roman"/>
              </a:rPr>
              <a:t>The adjective goes in between the 2 parts of the constructio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642960" y="571680"/>
            <a:ext cx="8001000" cy="5946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YPE up a detailed description of your local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sent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rfulleredgehill@yahoo.co.uk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Friday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clu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you live and what there is (hospital, stadium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shops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re any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you would like to have if you were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ves e.g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 embarg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mbié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em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4cujdzp%5b1%5d"/>
          <p:cNvPicPr/>
          <p:nvPr/>
        </p:nvPicPr>
        <p:blipFill>
          <a:blip r:embed="rId1"/>
          <a:stretch/>
        </p:blipFill>
        <p:spPr>
          <a:xfrm>
            <a:off x="468360" y="333360"/>
            <a:ext cx="1270080" cy="1409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2hi3mqyr%5b1%5d"/>
          <p:cNvPicPr/>
          <p:nvPr/>
        </p:nvPicPr>
        <p:blipFill>
          <a:blip r:embed="rId2"/>
          <a:stretch/>
        </p:blipFill>
        <p:spPr>
          <a:xfrm>
            <a:off x="1908000" y="260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21znvfl%5b1%5d"/>
          <p:cNvPicPr/>
          <p:nvPr/>
        </p:nvPicPr>
        <p:blipFill>
          <a:blip r:embed="rId3"/>
          <a:stretch/>
        </p:blipFill>
        <p:spPr>
          <a:xfrm>
            <a:off x="3564000" y="3333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_f0pmkjc%5b1%5d"/>
          <p:cNvPicPr/>
          <p:nvPr/>
        </p:nvPicPr>
        <p:blipFill>
          <a:blip r:embed="rId4"/>
          <a:stretch/>
        </p:blipFill>
        <p:spPr>
          <a:xfrm>
            <a:off x="5219640" y="189000"/>
            <a:ext cx="1270080" cy="139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7093080" y="1890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xfmcwyui%5b1%5d"/>
          <p:cNvPicPr/>
          <p:nvPr/>
        </p:nvPicPr>
        <p:blipFill>
          <a:blip r:embed="rId6"/>
          <a:stretch/>
        </p:blipFill>
        <p:spPr>
          <a:xfrm>
            <a:off x="250920" y="2492280"/>
            <a:ext cx="1270080" cy="132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r%2520park%2520page"/>
          <p:cNvPicPr/>
          <p:nvPr/>
        </p:nvPicPr>
        <p:blipFill>
          <a:blip r:embed="rId7"/>
          <a:stretch/>
        </p:blipFill>
        <p:spPr>
          <a:xfrm>
            <a:off x="1619280" y="23526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tretch/>
        </p:blipFill>
        <p:spPr>
          <a:xfrm>
            <a:off x="3639960" y="2492280"/>
            <a:ext cx="1278000" cy="130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y_4laen%5b1%5d"/>
          <p:cNvPicPr/>
          <p:nvPr/>
        </p:nvPicPr>
        <p:blipFill>
          <a:blip r:embed="rId9"/>
          <a:stretch/>
        </p:blipFill>
        <p:spPr>
          <a:xfrm>
            <a:off x="5219640" y="2481120"/>
            <a:ext cx="1440000" cy="13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BS00418_"/>
          <p:cNvPicPr/>
          <p:nvPr/>
        </p:nvPicPr>
        <p:blipFill>
          <a:blip r:embed="rId10"/>
          <a:stretch/>
        </p:blipFill>
        <p:spPr>
          <a:xfrm>
            <a:off x="7308720" y="2565360"/>
            <a:ext cx="1181160" cy="1150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2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4"/>
          <p:cNvGraphicFramePr/>
          <p:nvPr/>
        </p:nvGraphicFramePr>
        <p:xfrm>
          <a:off x="0" y="4495680"/>
          <a:ext cx="1619280" cy="15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495680"/>
                    <a:ext cx="1619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15" descr="domina2"/>
          <p:cNvPicPr/>
          <p:nvPr/>
        </p:nvPicPr>
        <p:blipFill>
          <a:blip r:embed="rId13"/>
          <a:stretch/>
        </p:blipFill>
        <p:spPr>
          <a:xfrm>
            <a:off x="1763640" y="4437000"/>
            <a:ext cx="1662120" cy="172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14"/>
          <a:stretch/>
        </p:blipFill>
        <p:spPr>
          <a:xfrm>
            <a:off x="3635280" y="4365720"/>
            <a:ext cx="15670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15"/>
          <a:stretch/>
        </p:blipFill>
        <p:spPr>
          <a:xfrm>
            <a:off x="5435640" y="4437000"/>
            <a:ext cx="1538280" cy="155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j0221843"/>
          <p:cNvPicPr/>
          <p:nvPr/>
        </p:nvPicPr>
        <p:blipFill>
          <a:blip r:embed="rId16"/>
          <a:stretch/>
        </p:blipFill>
        <p:spPr>
          <a:xfrm>
            <a:off x="7308720" y="4437000"/>
            <a:ext cx="1393920" cy="155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9"/>
          <p:cNvSpPr/>
          <p:nvPr/>
        </p:nvSpPr>
        <p:spPr>
          <a:xfrm>
            <a:off x="0" y="1773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hos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692360" y="1773360"/>
            <a:ext cx="165564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esta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492360" y="1773360"/>
            <a:ext cx="136872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Corre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0" y="3789360"/>
            <a:ext cx="154764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619280" y="3645000"/>
            <a:ext cx="1800360" cy="10087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Un aparc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763640" y="6093000"/>
            <a:ext cx="1692360" cy="764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entro come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5364000" y="602136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cast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7308720" y="5950080"/>
            <a:ext cx="1692360" cy="429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Comic Sans MS"/>
              </a:rPr>
              <a:t>Un mus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41964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oficina de tur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5148360" y="162864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es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7020000" y="170028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ated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5148360" y="3645000"/>
            <a:ext cx="169200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6877080" y="364500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comisa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0" y="6067440"/>
            <a:ext cx="1692360" cy="42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igles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635280" y="6067440"/>
            <a:ext cx="169236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Una plaza de to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195640" y="4508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211640" y="458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" descr="j4cujdzp%5b1%5d"/>
          <p:cNvPicPr/>
          <p:nvPr/>
        </p:nvPicPr>
        <p:blipFill>
          <a:blip r:embed="rId1"/>
          <a:stretch/>
        </p:blipFill>
        <p:spPr>
          <a:xfrm>
            <a:off x="971640" y="907920"/>
            <a:ext cx="944640" cy="10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car%2520park%2520page"/>
          <p:cNvPicPr/>
          <p:nvPr/>
        </p:nvPicPr>
        <p:blipFill>
          <a:blip r:embed="rId2"/>
          <a:stretch/>
        </p:blipFill>
        <p:spPr>
          <a:xfrm>
            <a:off x="826920" y="1989000"/>
            <a:ext cx="1081080" cy="106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y_4laen%5b1%5d"/>
          <p:cNvPicPr/>
          <p:nvPr/>
        </p:nvPicPr>
        <p:blipFill>
          <a:blip r:embed="rId3"/>
          <a:stretch/>
        </p:blipFill>
        <p:spPr>
          <a:xfrm>
            <a:off x="5003640" y="1125360"/>
            <a:ext cx="1008360" cy="9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1111320" cy="112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5"/>
          <a:stretch/>
        </p:blipFill>
        <p:spPr>
          <a:xfrm>
            <a:off x="826920" y="306864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121znvfl%5b1%5d"/>
          <p:cNvPicPr/>
          <p:nvPr/>
        </p:nvPicPr>
        <p:blipFill>
          <a:blip r:embed="rId6"/>
          <a:stretch/>
        </p:blipFill>
        <p:spPr>
          <a:xfrm>
            <a:off x="4932360" y="4508640"/>
            <a:ext cx="1181160" cy="118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_f0pmkjc%5b1%5d"/>
          <p:cNvPicPr/>
          <p:nvPr/>
        </p:nvPicPr>
        <p:blipFill>
          <a:blip r:embed="rId7"/>
          <a:stretch/>
        </p:blipFill>
        <p:spPr>
          <a:xfrm>
            <a:off x="4932360" y="3357720"/>
            <a:ext cx="942840" cy="103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domina2"/>
          <p:cNvPicPr/>
          <p:nvPr/>
        </p:nvPicPr>
        <p:blipFill>
          <a:blip r:embed="rId8"/>
          <a:stretch/>
        </p:blipFill>
        <p:spPr>
          <a:xfrm>
            <a:off x="755640" y="4221000"/>
            <a:ext cx="1316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divert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Copie de fetes"/>
          <p:cNvPicPr/>
          <p:nvPr/>
        </p:nvPicPr>
        <p:blipFill>
          <a:blip r:embed="rId1"/>
          <a:stretch/>
        </p:blipFill>
        <p:spPr>
          <a:xfrm>
            <a:off x="685800" y="250020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aburr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j0196546"/>
          <p:cNvPicPr/>
          <p:nvPr/>
        </p:nvPicPr>
        <p:blipFill>
          <a:blip r:embed="rId1"/>
          <a:stretch/>
        </p:blipFill>
        <p:spPr>
          <a:xfrm>
            <a:off x="2050920" y="2708280"/>
            <a:ext cx="3457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bon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Copie de bonito"/>
          <p:cNvPicPr/>
          <p:nvPr/>
        </p:nvPicPr>
        <p:blipFill>
          <a:blip r:embed="rId1"/>
          <a:stretch/>
        </p:blipFill>
        <p:spPr>
          <a:xfrm>
            <a:off x="896760" y="1981080"/>
            <a:ext cx="33861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fe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opie de feo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moder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Copie de modern"/>
          <p:cNvPicPr/>
          <p:nvPr/>
        </p:nvPicPr>
        <p:blipFill>
          <a:blip r:embed="rId1"/>
          <a:stretch/>
        </p:blipFill>
        <p:spPr>
          <a:xfrm>
            <a:off x="809640" y="1981080"/>
            <a:ext cx="35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¿Cómo es tu bar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 barrio 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2920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antigu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opie de antiguo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1:43:59Z</dcterms:created>
  <dc:creator>NEC Computers International</dc:creator>
  <dc:description/>
  <dc:language>en-US</dc:language>
  <cp:lastModifiedBy>Chris</cp:lastModifiedBy>
  <dcterms:modified xsi:type="dcterms:W3CDTF">2009-01-12T12:43:19Z</dcterms:modified>
  <cp:revision>9</cp:revision>
  <dc:subject/>
  <dc:title>¿Como es tu barrio?</dc:title>
</cp:coreProperties>
</file>